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3E1D-F95F-435E-BA2E-D52DF771B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80AD-2E33-4EBB-93E1-BAEC02798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o. Heute ist der 20. M</a:t>
            </a:r>
            <a:r>
              <a:rPr b="0" lang="de-DE" sz="1200" spc="-1" strike="noStrike">
                <a:solidFill>
                  <a:srgbClr val="000000"/>
                </a:solidFill>
                <a:latin typeface="Arial"/>
              </a:rPr>
              <a:t>ärz. Mein name ist Elias Haase. Heute werde ich über die Wasserqualität in den Flüssen Deutsch sprechen. </a:t>
            </a:r>
            <a:r>
              <a:rPr b="0" lang="en-US" sz="1200" spc="-1" strike="noStrike">
                <a:solidFill>
                  <a:srgbClr val="000000"/>
                </a:solidFill>
                <a:latin typeface="Arial"/>
              </a:rPr>
              <a:t>In diesem PowerPoint werde ich "schneiden" die Frage der Wasserqualität. </a:t>
            </a:r>
            <a:r>
              <a:rPr b="0" lang="de-DE" sz="1200" spc="-1" strike="noStrike">
                <a:solidFill>
                  <a:srgbClr val="000000"/>
                </a:solidFill>
                <a:latin typeface="Arial"/>
              </a:rPr>
              <a:t>Noch einmal, mein Name ist Elias Haase, falls Sie es vergessen habe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mein Literaturverzeichnis. Das ist ziemlich selbsterklä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y bibliography. This is pretty self explanatory. </a:t>
            </a: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9ADC-7748-45E2-B4FD-45EF608A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Questions: </a:t>
            </a:r>
            <a:r>
              <a:rPr b="0" lang="de-DE" sz="1200" spc="-1" strike="noStrike">
                <a:solidFill>
                  <a:srgbClr val="000000"/>
                </a:solidFill>
                <a:latin typeface="Arial"/>
              </a:rPr>
              <a:t>Mein lieber Elias, warum haben Sie verbringen so viel Zeit damit dieses Pro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dear Elias, why did you spend so much time doing this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um haben Sie dieses The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you choose this topi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e viele Chemikalien im Wasser w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many chemicals were in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mments :</a:t>
            </a:r>
            <a:r>
              <a:rPr b="0" lang="de-DE" sz="1200" spc="-1" strike="noStrike">
                <a:solidFill>
                  <a:srgbClr val="000000"/>
                </a:solidFill>
                <a:latin typeface="Arial"/>
              </a:rPr>
              <a:t>Das macht Spaß, im Gespräch mit uns über die Umweltthemen. Wir sollten das öfter zusammen ma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fun, us talking about the environmental issues. We should do this more often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scheint, wie der Saale ist der größte Fl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ike the Saale river is the large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s Bild zeigt das Gebiet der Fluss-Eff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shows the area the river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troffenen Bereiche sind Personen-und Pflanzenw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ed areas include people and pl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ahlen zeigen den Bereich, den Fluss Eff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show the area the river effects.</a:t>
            </a: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9A29-C0F8-458F-88F4-9824E5773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einige interessante Komplikationen in diesen Bereich von Umweltfragen. Die erste ist, dass die EU-Rahmenrichtlinie unwahrscheinlich, dass in Deutschland bis zum Jahr 2015 erreicht werden soll. Das ist nicht gut, wie man deutlich s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interesting complications involving this area of environmental issues. The first is that the EU framework directive is unlikely to be attained in Germany by 2015. This is not good, as you can clearly t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B35B-658F-4400-AD2A-43DC4FD22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ist ein Bild der Saale und Elbe. Dies sind nur zwei der vier Flüsse, die die Studie 10 Jahre unternah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the Saale and Elbe rivers. These are just two of the four rivers that undertook the 10 year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3F03-B136-4765-92DF-A70DA40F8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r Studie traten über zehn Jahren. Die Jahre dies geschah, war zwischen 1994 und 2004. Insgesamt 257 dieser Verbindungen wurden in den Flüssen nachgewie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occurred over ten years. The years this took place was between 1994 and 2004. A total of 257 of these compounds were detected in the rivers. </a:t>
            </a: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D68D-A4AB-4881-8268-1D71BA7A3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Bild ein Wissenschaftler nimmt eine Wasserprobe. Er scheint zu sehr beschäftigt sein mit dem, was er tut, also lasst uns ihn nicht stören für sehr l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icture a scientist is taking a water sample. He seems to be pretty busy with what he is doing, so let us not disturb him for very long.</a:t>
            </a: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D84B-740C-46A1-ADF5-1963414FD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zahlreiche Ziele, die nett zu erreichen wäre. Ein Ziel ist die Erhaltung und Wiederherstellung des ökologischen Gleichgewichts der Gewäs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umerous goals that would be nice to attain. One Goal is the conserving and restoring the ecological balance of waters. </a:t>
            </a: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F867-887F-4F0C-910B-9DE764661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ist ein Bild von Kunststoff-und Glasflaschen umweltschädliche einen Fluss. Die Schwarz-Weiß soll Humor in die Szene hinzuzufü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plastic and glass bottles polluting a river. The black and white is meant to add humor to the scene. </a:t>
            </a: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392A-D818-4A07-A082-90A0819AA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ind die Fragen, die ich bringen in meiner Kultur Presentaion. Sie sind sehr wicht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questions that i bring up in my culture presentaion. They are very important. </a:t>
            </a: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DEA4-60F3-4F81-8EF6-060F8507B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sind die Antworten. Ich weiß, Sie sind ziemlich beeindruc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answers. I know, you are quite impressed. </a:t>
            </a: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9E4A-8C31-4390-BD93-882A18420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56BD-2B06-4930-938E-C7FA32E8A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8C23-FE84-4DDE-BAF7-0EC840647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69C15-585D-41DB-B0EE-CE61FE992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5E5E8-CAB2-466D-BE5A-26D59A2F8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6EC70-9E0E-49C8-9A96-8714FACA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B967B-74EE-4A39-9D4B-7493FC1F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A0CA-EF5E-40B2-95EE-2D588101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34CA9-7172-401B-B4C1-E58DB110C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F4322-AB46-40A6-BAB0-DE0DBEAA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37A9-CF69-46B7-BFEA-548D435A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FB41-89D6-4E3A-88A7-442ED61B3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D967-66B0-430A-8E71-DCF71F0DB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D838-F44A-4D59-BFBF-395E1FF922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sciencedaily.com/releases/2011/09/110906121244.htm" TargetMode="External"/><Relationship Id="rId2" Type="http://schemas.openxmlformats.org/officeDocument/2006/relationships/hyperlink" Target="http://www.physorg.com/news/2011-09-poor-outlook-quality-germany.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0" lang="en-US" sz="4000" spc="-1" strike="noStrike">
                <a:solidFill>
                  <a:srgbClr val="000000"/>
                </a:solidFill>
                <a:latin typeface="Arial"/>
              </a:rPr>
              <a:t>Environmental issues in German speaking countries </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quality in the German river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as Haas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sciencedaily.com/releases/2011/09/110906121244.ht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physorg.com/news/2011-09-poor-outlook-quality-germany.htm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u.de/english/water_management/doc/3458.php</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fz.de/export/data/1/27320_probennahme_fluss.jp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4.static.flickr.com/3232/3019039052_3b3e3ec6c8.jp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fz.de/export/data/1/27319_elbe_saalemuendung__2_.jp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68" name="Picture 5" descr="19005_CMS_IMAGE"/>
          <p:cNvPicPr/>
          <p:nvPr/>
        </p:nvPicPr>
        <p:blipFill>
          <a:blip r:embed="rId1"/>
          <a:stretch/>
        </p:blipFill>
        <p:spPr>
          <a:xfrm>
            <a:off x="2119320" y="0"/>
            <a:ext cx="477828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 framework directive is unlikely to be attained in Germany by 201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largest rivers in Germany were studied over ten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ivers were the Elbe, Weser, Aller and 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y was carried out by University of Koblenz-Landau, the Helmholtz Centre for Environmental Research -- UFZ and Freiberg University of Mining and Technolog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published in the international scientific journal</a:t>
            </a:r>
            <a:r>
              <a:rPr b="0" i="1" lang="en-US" sz="2400" spc="-1" strike="noStrike">
                <a:solidFill>
                  <a:srgbClr val="000000"/>
                </a:solidFill>
                <a:latin typeface="Arial"/>
              </a:rPr>
              <a:t> Environmental Science &amp; Technolog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 name="WordArt 4"/>
          <p:cNvSpPr txBox="1"/>
          <p:nvPr/>
        </p:nvSpPr>
        <p:spPr>
          <a:xfrm>
            <a:off x="2514600" y="457200"/>
            <a:ext cx="3886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ituations</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52" name="Picture 5" descr="27319_elbe_saalemuendung__2_"/>
          <p:cNvPicPr/>
          <p:nvPr/>
        </p:nvPicPr>
        <p:blipFill>
          <a:blip r:embed="rId1"/>
          <a:stretch/>
        </p:blipFill>
        <p:spPr>
          <a:xfrm>
            <a:off x="1219320" y="1447920"/>
            <a:ext cx="6743520" cy="4968720"/>
          </a:xfrm>
          <a:prstGeom prst="rect">
            <a:avLst/>
          </a:prstGeom>
          <a:ln w="0">
            <a:noFill/>
          </a:ln>
        </p:spPr>
      </p:pic>
      <p:sp>
        <p:nvSpPr>
          <p:cNvPr id="53" name="WordArt 6"/>
          <p:cNvSpPr txBox="1"/>
          <p:nvPr/>
        </p:nvSpPr>
        <p:spPr>
          <a:xfrm>
            <a:off x="1752480" y="380880"/>
            <a:ext cx="5334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Saale and Elbe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s the biggest of its kind anywhere in the world," stated Ralf B. Schäf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ver monitoring data spanning from 1994 until 2004 were analyz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ccurrence and possible toxic effects of 331 organic pollutants were examined in order to evaluate the quality of the river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of 257 of these compounds were detected in the riv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o, the overall amount of these toxins have decreased over the 10 year study period.</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 name="WordArt 4"/>
          <p:cNvSpPr txBox="1"/>
          <p:nvPr/>
        </p:nvSpPr>
        <p:spPr>
          <a:xfrm>
            <a:off x="1600200" y="152280"/>
            <a:ext cx="53244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ituations continued </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6" name="Picture 5" descr="27320_probennahme_fluss"/>
          <p:cNvPicPr/>
          <p:nvPr/>
        </p:nvPicPr>
        <p:blipFill>
          <a:blip r:embed="rId1"/>
          <a:stretch/>
        </p:blipFill>
        <p:spPr>
          <a:xfrm>
            <a:off x="914400" y="1981080"/>
            <a:ext cx="7010280" cy="4664160"/>
          </a:xfrm>
          <a:prstGeom prst="rect">
            <a:avLst/>
          </a:prstGeom>
          <a:ln w="0">
            <a:noFill/>
          </a:ln>
        </p:spPr>
      </p:pic>
      <p:sp>
        <p:nvSpPr>
          <p:cNvPr id="57" name="WordArt 6"/>
          <p:cNvSpPr txBox="1"/>
          <p:nvPr/>
        </p:nvSpPr>
        <p:spPr>
          <a:xfrm>
            <a:off x="609480" y="838080"/>
            <a:ext cx="7953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cientist taking a water sampl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central objectives of water protection policy in Germany are: Conserving or restoring the ecological balance of wa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oal is to safeguard all other water uses that serve public inte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goal though is to prevent the pollution of surface and ground w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trying to protect the water from heavy metals and certain non degradable organic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oal is to safeguard the natural wildlif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WordArt 5"/>
          <p:cNvSpPr txBox="1"/>
          <p:nvPr/>
        </p:nvSpPr>
        <p:spPr>
          <a:xfrm>
            <a:off x="3048120" y="152280"/>
            <a:ext cx="2819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al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0" name="Picture 5" descr="3019039052_3b3e3ec6c8"/>
          <p:cNvPicPr/>
          <p:nvPr/>
        </p:nvPicPr>
        <p:blipFill>
          <a:blip r:embed="rId1"/>
          <a:stretch/>
        </p:blipFill>
        <p:spPr>
          <a:xfrm>
            <a:off x="1828800" y="2209680"/>
            <a:ext cx="5295960" cy="3527640"/>
          </a:xfrm>
          <a:prstGeom prst="rect">
            <a:avLst/>
          </a:prstGeom>
          <a:ln w="0">
            <a:noFill/>
          </a:ln>
        </p:spPr>
      </p:pic>
      <p:sp>
        <p:nvSpPr>
          <p:cNvPr id="61" name="WordArt 6"/>
          <p:cNvSpPr txBox="1"/>
          <p:nvPr/>
        </p:nvSpPr>
        <p:spPr>
          <a:xfrm>
            <a:off x="1523880" y="304920"/>
            <a:ext cx="5562720" cy="106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ollution in a riv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years did it the water pollution study ta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many pollutants were researched?</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0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331</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2:51:23Z</dcterms:created>
  <dc:creator>SCSadmin</dc:creator>
  <dc:description/>
  <dc:language>en-US</dc:language>
  <cp:lastModifiedBy>Elias</cp:lastModifiedBy>
  <dcterms:modified xsi:type="dcterms:W3CDTF">2012-03-20T03:13:20Z</dcterms:modified>
  <cp:revision>47</cp:revision>
  <dc:subject/>
  <dc:title>  Environmental issues in German speaking countries </dc:title>
</cp:coreProperties>
</file>